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50771"/>
        <c:axId val="11094266"/>
      </c:barChart>
      <c:catAx>
        <c:axId val="96950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94266"/>
        <c:crosses val="autoZero"/>
        <c:auto val="1"/>
        <c:lblAlgn val="ctr"/>
        <c:lblOffset val="100"/>
        <c:noMultiLvlLbl val="0"/>
      </c:catAx>
      <c:valAx>
        <c:axId val="11094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0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478-BC4D-4864-A4B1-ADBA8F6A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B19-F56A-42D9-9C0D-E32AB7E5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EFF-5346-4B8D-A201-D3CDA679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04E-E4FD-4E5A-BBC8-D42E9083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33A-C17B-4A32-9E51-C2CA44E3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046-2097-40EE-9DC3-EAEC9AC5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404-254D-4411-A8A0-498DB77D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66D-114E-449C-B2CB-CB8669A0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A85-74A2-4E9D-AC7C-74CE89D8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867-EC2F-4ABE-9164-DC2BC025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4D1-B005-49E0-A59C-98A0FBB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B76-4AC5-459A-84A7-1EF0B6AE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72BEC-FE37-4EEE-8DB4-5ABCDD5463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