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410"/>
        <c:axId val="76072524"/>
      </c:barChart>
      <c:catAx>
        <c:axId val="931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2524"/>
        <c:crosses val="autoZero"/>
        <c:auto val="1"/>
        <c:lblAlgn val="ctr"/>
        <c:lblOffset val="100"/>
        <c:noMultiLvlLbl val="0"/>
      </c:catAx>
      <c:valAx>
        <c:axId val="76072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7AF-00A0-462C-ADEB-24A5624C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18D-3F5B-4305-B7EC-9CF5922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9DF-C59F-4D52-A2EC-03FC70DB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A86-C189-4046-9BD1-17164A1D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8B0-4427-4416-94A3-965556CC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243-E536-4A94-9E18-BC96F82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51B-FB7B-49DF-9A76-E10F34D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145-F198-40DB-800E-4D239095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2B6-316A-42D7-8E3A-EA903814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6CD-0E9A-4622-9F5A-B7944E5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A73-BADC-42AA-BD61-ECDE6BAA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C7F-2DF3-4EDB-8794-189D5A9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86723-35D4-4F64-B220-95BEF4A4B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