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88507"/>
        <c:axId val="44529987"/>
      </c:barChart>
      <c:catAx>
        <c:axId val="99988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29987"/>
        <c:crosses val="autoZero"/>
        <c:auto val="1"/>
        <c:lblAlgn val="ctr"/>
        <c:lblOffset val="100"/>
        <c:noMultiLvlLbl val="0"/>
      </c:catAx>
      <c:valAx>
        <c:axId val="44529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88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A23-EB4A-4E6B-B64D-1D423454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551-46BA-4F17-96A3-324CD6C9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565-578C-4DA8-ADB0-F309CA0F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62E-7A6D-4D04-A1C3-3B819D89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823-6C06-42AE-AC67-63153B8C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0BE-9FF7-4496-9D9A-BF2DD276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A31-91E2-43F1-A02F-AF3433A1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6E3-F1A1-458C-AD41-8C8655E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617-C8D0-4716-832D-1E40F7E3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C83-76F4-447A-B35E-609600C1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5C1-282C-4E4D-A609-02C0C59B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96D-9389-4ED8-A79B-00960835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478B1-B8B0-4F2D-A0AF-367C3EDD8D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