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209660"/>
        <c:axId val="81747035"/>
      </c:barChart>
      <c:catAx>
        <c:axId val="452096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747035"/>
        <c:crosses val="autoZero"/>
        <c:auto val="1"/>
        <c:lblAlgn val="ctr"/>
        <c:lblOffset val="100"/>
        <c:noMultiLvlLbl val="0"/>
      </c:catAx>
      <c:valAx>
        <c:axId val="817470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2096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532D-8277-4E82-98B1-496975A79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FCFB-4A8D-4E1B-8E18-E94220B01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B08E-6E80-4189-8EB3-018CC301C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63AF-43AE-4946-9859-17E5C3B79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EB8D-2A58-4404-82FE-62B001DEB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D8C8-C1A8-4DE1-8FCB-B8EDBD401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82A1-49F0-4F8C-A781-4B714D6FA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3C97-D977-44D5-AD94-F0783920E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5DA2-3E64-4AA4-95B5-BFDC02CFF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8D0D-01E2-494B-AC09-9469BF87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A718-C278-4DFE-8D51-C79301CAA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1C94-5551-41C5-9CC4-7CBB9AB0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8F297B-D809-4512-9C76-3C015E08AB9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