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268559"/>
        <c:axId val="13642333"/>
      </c:barChart>
      <c:catAx>
        <c:axId val="512685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642333"/>
        <c:crosses val="autoZero"/>
        <c:auto val="1"/>
        <c:lblAlgn val="ctr"/>
        <c:lblOffset val="100"/>
        <c:noMultiLvlLbl val="0"/>
      </c:catAx>
      <c:valAx>
        <c:axId val="136423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2685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B964-8DCC-4714-9A85-59D5505BB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26F2-E8F6-448A-9CD8-B90E9697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8485-DEA4-486E-ABA0-63F490E73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7AD9-FC91-42DC-90EF-D47807AC6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FD89-64CC-4EF7-B1D3-831A5FA7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A1FD-3264-4CF3-AD58-D7EC5C8C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0991-21E6-4773-80F5-5DFEE005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D014-46B2-4571-B59B-ED5FA9BE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79E2-1EC2-40CB-AD49-6D0E93EB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485A-FF20-4981-AA6C-B6521E0C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A561-AA8A-4B0D-8507-A3306282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C5E2-74CD-4024-B8AC-BC9C892F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1BA74-6E01-47D8-94F3-8E93BA3A2C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