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42102"/>
        <c:axId val="52575610"/>
      </c:barChart>
      <c:catAx>
        <c:axId val="4904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75610"/>
        <c:crosses val="autoZero"/>
        <c:auto val="1"/>
        <c:lblAlgn val="ctr"/>
        <c:lblOffset val="100"/>
        <c:noMultiLvlLbl val="0"/>
      </c:catAx>
      <c:valAx>
        <c:axId val="52575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4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BE5-325F-45E8-B36E-1411E422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B0C-0145-4B14-9BAA-5253EA81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CC7-CD2A-4F47-80BE-13D6856C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A68-2EA7-4A5B-9B4A-87BB30B8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7E8-AC5A-4035-8F10-8551F290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18F-6981-4653-A1A6-D2B8D6C6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F46-5370-4BF2-95A9-4BBAA1B4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2F2-644A-444E-8288-A4D07F42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870-14CD-472A-9845-7A7DA186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1DA-EA85-439D-B5C1-CF5F479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257-1479-4C24-A075-F63D2993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AD4-1CD9-490D-8F08-71758A1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2AEDF-AA33-4625-87AC-CC8FB45F3D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