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69463"/>
        <c:axId val="91448158"/>
      </c:barChart>
      <c:catAx>
        <c:axId val="86369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48158"/>
        <c:crosses val="autoZero"/>
        <c:auto val="1"/>
        <c:lblAlgn val="ctr"/>
        <c:lblOffset val="100"/>
        <c:noMultiLvlLbl val="0"/>
      </c:catAx>
      <c:valAx>
        <c:axId val="91448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69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CB9-1CF5-454C-BA6B-520460E3F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07D-FA07-40E8-AEBF-448FC53D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E7F-020D-4DD0-9C38-2988213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F77-0779-493E-B761-914ECC7E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BCD-8142-4368-B3D4-E4525293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81A4-41DC-44DF-9DA0-9D0CAB4E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F792-62DD-4E3B-85B1-21666BC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4B2-AB1D-4DEB-8E4C-532CAE4A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723-8C31-4909-A6BB-CA33357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CC6-E9FE-4637-A8B2-111BC50F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4B3-C8C6-401F-BAB7-250F8D59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906-48E1-4A1F-8D91-FAA89A11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4E36F-0EAF-4131-B2FC-FE0AB4F5C8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