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48898"/>
        <c:axId val="682255"/>
      </c:barChart>
      <c:catAx>
        <c:axId val="74848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255"/>
        <c:crosses val="autoZero"/>
        <c:auto val="1"/>
        <c:lblAlgn val="ctr"/>
        <c:lblOffset val="100"/>
        <c:noMultiLvlLbl val="0"/>
      </c:catAx>
      <c:valAx>
        <c:axId val="682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48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915-D845-447A-98DC-2572C8BA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F489-771A-4EC0-9AF2-D3868580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A17-7AC3-4FF5-AEC2-530739ED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F79C-6132-4B01-979C-6D9D516F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6E6D-91E3-4461-A65D-5A1C6B96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E00-762A-43C3-81C0-D5E769A4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295-6B75-49AD-9FAC-E3F8D805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364-0714-42F9-B063-758F66D5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1F3-AA7E-404F-86D1-0282C3A5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4C0E-D0F6-4DDD-8F34-A7766260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427-6367-4C16-B51D-2EEDAFFA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E17A-9B94-48D9-AE5C-B89E7B5A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F9087-7E4F-4278-A690-978E81B3CE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