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39906"/>
        <c:axId val="22211874"/>
      </c:barChart>
      <c:catAx>
        <c:axId val="91339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11874"/>
        <c:crosses val="autoZero"/>
        <c:auto val="1"/>
        <c:lblAlgn val="ctr"/>
        <c:lblOffset val="100"/>
        <c:noMultiLvlLbl val="0"/>
      </c:catAx>
      <c:valAx>
        <c:axId val="22211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39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513-B6A1-471B-A93E-3E9105CC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EF4-983E-4A77-89AC-5D4AC4FE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BDA-9D02-4048-8E3C-1A62334A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7602-605A-4136-A6D3-1271C7B5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EED-3EE0-4B88-9F4C-5D79C419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0BE-430C-43DD-96E1-BC90B922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4DF-2D43-4267-ADEB-F4F10630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EA8-149A-4031-BB2F-0E265645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C5C-3B6C-4C69-9017-9775BC71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AF8-949D-43B5-B605-5F7C1EE3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71A-CB37-4359-A1B8-5577289C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D7A-7277-4347-B583-14736509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14C15-3FB2-4DDC-B0EA-4736951769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