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109423"/>
        <c:axId val="56207768"/>
      </c:barChart>
      <c:catAx>
        <c:axId val="911094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207768"/>
        <c:crosses val="autoZero"/>
        <c:auto val="1"/>
        <c:lblAlgn val="ctr"/>
        <c:lblOffset val="100"/>
        <c:noMultiLvlLbl val="0"/>
      </c:catAx>
      <c:valAx>
        <c:axId val="562077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1094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3D27-0794-45BF-9FC2-D318EC132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244E-86BE-4D6D-949C-B630F4986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C970-B808-41FA-B901-24EE12107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FE6B-0F10-4432-95B1-BEBEE035F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A00B-6A1F-4FBD-9BF7-AA031C7F7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3DCA-D62E-4E5F-9420-00F5FEF60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81F9-0579-4659-A90E-E7E38C2C8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5882-BB72-4F55-9D76-2ED5F2BC8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0B4F-0A1C-4580-9160-D17B9B342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0D6F-82AC-462D-8D18-ECD487A5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1B68-B6A4-47A0-9AF4-FA95D5EB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0887-9FB3-4500-A378-B01D7E70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92A3A5-A2D4-4D5A-B313-01566A1F93D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