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4407"/>
        <c:axId val="59187462"/>
      </c:barChart>
      <c:catAx>
        <c:axId val="8424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87462"/>
        <c:crosses val="autoZero"/>
        <c:auto val="1"/>
        <c:lblAlgn val="ctr"/>
        <c:lblOffset val="100"/>
        <c:noMultiLvlLbl val="0"/>
      </c:catAx>
      <c:valAx>
        <c:axId val="59187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4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750-8BE1-43CF-8BAC-24D6A099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6EF-948F-4CF6-AE7B-0CFA5479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C9A-ABEB-4250-B972-17685CDD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66D-6CB5-4CF0-B2E0-E8EA63F6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D10-6FA4-4734-B77F-8D7D9129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8E6-C6C6-4413-8FD7-40F49C76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C7A-8AE0-4708-93BC-92CAAFC1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925-DD7C-479A-9312-B29C2A78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95F-3484-442A-B2AB-E139FD35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EF9-1FBB-4792-8839-A32A5BB3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19C-5F8F-4B71-8DAF-7941E31E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742-091A-48CC-8E7C-678C00D9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E1093-1534-4FF9-A466-FADB8614C6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