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87517"/>
        <c:axId val="19535181"/>
      </c:barChart>
      <c:catAx>
        <c:axId val="72087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35181"/>
        <c:crosses val="autoZero"/>
        <c:auto val="1"/>
        <c:lblAlgn val="ctr"/>
        <c:lblOffset val="100"/>
        <c:noMultiLvlLbl val="0"/>
      </c:catAx>
      <c:valAx>
        <c:axId val="19535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87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E22-08FD-44D9-8E71-C3D2C6E9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7B6-9962-4A66-ABCF-0625044E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BBA-A6B2-48D3-A90B-5BEED284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6F8-970C-4F46-9857-A2E8360C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6CBC-3EDD-402A-B9B0-D9C2354D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5AF-B378-4235-B786-BCB96813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E30-90FD-44AF-AF3D-D50190D2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260-5D19-4653-B463-2E87B92C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D7B-74F4-417A-B380-03AFEDCC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5D2-AA6D-46FB-BF0E-BB05211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27A-EF40-47DD-8B0C-00940915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7E2-3CDD-4DF2-BF0B-2EA33F58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549E1-1E01-44D9-836E-3E5868609E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