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07396"/>
        <c:axId val="42933533"/>
      </c:barChart>
      <c:catAx>
        <c:axId val="58607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33533"/>
        <c:crosses val="autoZero"/>
        <c:auto val="1"/>
        <c:lblAlgn val="ctr"/>
        <c:lblOffset val="100"/>
        <c:noMultiLvlLbl val="0"/>
      </c:catAx>
      <c:valAx>
        <c:axId val="42933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07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56A-1C34-4AA2-8512-D2EE9821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265-E067-4489-BC72-EE38BCC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FFA-CE4D-4761-8813-353A0103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084-2B3A-410F-85CA-8C6C4DCB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20B-20DF-4AEA-BA91-56928F44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70F-36A5-46B2-AA2C-BE62B6B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635-997F-42B2-941A-B87CB7F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4A5-3815-4C71-961C-06F6CBA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555-47A6-45E1-A053-8E5CE8B4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871-6D5E-46F1-BEAD-C36B726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130-97F8-4ED3-96A7-0CC28FF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21D-6868-42E3-9E5B-08CA3D5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221D9-B16F-450F-8D7B-439186858D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