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9405"/>
        <c:axId val="66122484"/>
      </c:barChart>
      <c:catAx>
        <c:axId val="1149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22484"/>
        <c:crosses val="autoZero"/>
        <c:auto val="1"/>
        <c:lblAlgn val="ctr"/>
        <c:lblOffset val="100"/>
        <c:noMultiLvlLbl val="0"/>
      </c:catAx>
      <c:valAx>
        <c:axId val="66122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9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BCB-68A8-470A-8385-A38598D5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774-2BDD-4D48-9306-6927688D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D4D7-07BA-44B6-83F0-8ACC7933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C51-7DF7-4263-BBB2-B5E88A86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FBC-EB9D-45F1-965D-6F8584EA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CB7-6086-47F1-AA51-A80940B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D97E-C901-4500-80F9-E41F7D26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737-E59D-4F3A-AA6A-032DC8D1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F61D-3369-4F18-8822-04A26D9B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F78-4882-4394-9A9B-7A0C9D5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2B0-4838-464F-B111-F5DF84BE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E19-FD4A-4CB1-8D72-9ECBB5EB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8C6B6-0AC8-4AB0-97CE-316F9852DF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