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74537"/>
        <c:axId val="37663300"/>
      </c:barChart>
      <c:catAx>
        <c:axId val="16374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63300"/>
        <c:crosses val="autoZero"/>
        <c:auto val="1"/>
        <c:lblAlgn val="ctr"/>
        <c:lblOffset val="100"/>
        <c:noMultiLvlLbl val="0"/>
      </c:catAx>
      <c:valAx>
        <c:axId val="376633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74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5DB-BCD3-47BD-99D7-E5EB2C49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38B-D252-4C50-9B23-D5157DA2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253-2974-4BA9-A8A1-EEF904D5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34F-30A8-49E2-8E8A-A817C12E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08E-D4D0-4A86-90B8-3CA5CE0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AE9-9278-4B25-9947-2E66F436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10C-266D-43CB-8014-7DBB3978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4BC-4AD1-40EB-A3CF-DA50E3A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09E-9A6C-4F2C-82F1-2C108C20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0517-7669-4456-AE5D-3393427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968-4926-436F-B610-71F8C5F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63E3-7FCD-4677-B23D-FEF8F9EC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7B362-56BB-485A-B4E6-AB9FD23090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