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042909"/>
        <c:axId val="55094536"/>
      </c:barChart>
      <c:catAx>
        <c:axId val="340429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94536"/>
        <c:crosses val="autoZero"/>
        <c:auto val="1"/>
        <c:lblAlgn val="ctr"/>
        <c:lblOffset val="100"/>
        <c:noMultiLvlLbl val="0"/>
      </c:catAx>
      <c:valAx>
        <c:axId val="55094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429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F2E-090A-4E12-822D-EA46B01E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C9E-E1C0-4F16-B6D8-E404735D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AE7-96AA-4891-AE72-B5A75ECA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D6FD-81E0-4E2E-B61C-69A37AD5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AFB-B83F-4F45-BDF6-F60D35AF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D051-CD82-4348-A9BD-ACFBFA62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C81-68CD-4EE2-8395-A51E92B7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E59-E9D0-4D0F-BC3D-EFE98C6A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B6E7-35AD-4904-B84B-6685A745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028-3C21-4007-9799-21C5241D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9D8-80FE-42C3-8486-490804AF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28CD-7EC7-402F-84D6-DB6B8697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FF490-D037-40EE-92F8-65E86C9EA1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