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09445"/>
        <c:axId val="70912701"/>
      </c:barChart>
      <c:catAx>
        <c:axId val="6509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2701"/>
        <c:crosses val="autoZero"/>
        <c:auto val="1"/>
        <c:lblAlgn val="ctr"/>
        <c:lblOffset val="100"/>
        <c:noMultiLvlLbl val="0"/>
      </c:catAx>
      <c:valAx>
        <c:axId val="70912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9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58E0-5B25-4A15-8EF3-2A0E32B9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1784-449D-4AE0-B0C2-3552854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9F9-4E67-4923-ACCD-97610833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F7B-C3E8-427D-967E-40FEE624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423-A3C4-4E89-9EA0-B31BB096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FA8-42A7-410E-B74D-7C12EA43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A74-2EA4-40FE-8C22-C0E09045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AE2-4F7E-44A1-A609-8489216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310-1436-4EBF-998C-FAE31C63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C8E-1819-428A-9B70-30ABC60C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790-1BEA-4776-A5C4-5F0073A0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F95-4B56-40C8-AD56-B3C6885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DF505-A3F9-49C3-80F0-E432B56685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