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36728"/>
        <c:axId val="93499945"/>
      </c:barChart>
      <c:catAx>
        <c:axId val="71036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99945"/>
        <c:crosses val="autoZero"/>
        <c:auto val="1"/>
        <c:lblAlgn val="ctr"/>
        <c:lblOffset val="100"/>
        <c:noMultiLvlLbl val="0"/>
      </c:catAx>
      <c:valAx>
        <c:axId val="934999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36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526-772A-4846-9E3F-9DE4D80C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E556-64F3-4F87-ACA3-1C9AF609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8AAB-5601-41A2-9E22-738135FA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494-FDAE-4FE1-9355-EE5FE0B3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3EC1-9337-4548-BC1D-70ADADF0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0313-1A84-4865-AF74-1F95D728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7092-7CBC-4334-B191-70D046B5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3DA-505F-4C04-AED6-3D0E8632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44A-8E8E-4D01-96B6-3456FD26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128-23D8-4DDF-AA61-ACA78E59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7AB-44CE-4696-BC99-ADF5DC39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E9C0-8F76-4A71-949E-4AD4345E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659E4-F36F-46F3-9A1D-0CCCF8EA2D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