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96614"/>
        <c:axId val="9691167"/>
      </c:barChart>
      <c:catAx>
        <c:axId val="43996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1167"/>
        <c:crosses val="autoZero"/>
        <c:auto val="1"/>
        <c:lblAlgn val="ctr"/>
        <c:lblOffset val="100"/>
        <c:noMultiLvlLbl val="0"/>
      </c:catAx>
      <c:valAx>
        <c:axId val="9691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96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17E-6521-4922-8EEC-9FD5957BD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FFF-B464-4619-81DD-763EEF9B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175-BEBC-43A1-9694-23631B45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72F2-35B0-413B-B146-660DF51A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996-16CC-4B2C-8D80-6FC6EF1B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00B-348F-472E-9B88-EF88477A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746-A0E2-4D2B-85CE-1AF056C4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0E3-06EB-4A1E-9D1E-034D25E1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4F9-DC91-4B48-A962-843FA633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7C2-BB77-4A60-B485-FA889E5C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C92-F14C-4D38-AED2-CF505D47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5BA-DB01-422D-9838-B0A7905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28CFA-B978-46EE-B944-0FF533E9B2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