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61675"/>
        <c:axId val="63213887"/>
      </c:barChart>
      <c:catAx>
        <c:axId val="63661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13887"/>
        <c:crosses val="autoZero"/>
        <c:auto val="1"/>
        <c:lblAlgn val="ctr"/>
        <c:lblOffset val="100"/>
        <c:noMultiLvlLbl val="0"/>
      </c:catAx>
      <c:valAx>
        <c:axId val="63213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1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DE1-A972-4131-8CBB-C30E61FB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447-E22B-4AF5-BAF4-DEB0D01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F67-324F-4C03-9D8B-C00BB5A9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0E4-DAA4-4C56-BE80-4FADDA40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0FC-8FCE-4E62-AC64-F464EE57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B0F-59E6-434A-93B4-3C07645D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BAE-A7F6-45C7-B0DF-E9B68445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208-3DD4-4F26-B9F9-CF09B4BD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950-C74C-4A5B-897F-6077AA00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0B6-78C0-44BC-B160-5EEA77E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1FA-9787-4AAD-BE55-B2D1BFF3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FAE-5A34-41EC-B36D-5E27AE8C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3110A-6DAD-4B1D-B093-49064011A1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