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90476"/>
        <c:axId val="71957953"/>
      </c:barChart>
      <c:catAx>
        <c:axId val="61904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57953"/>
        <c:crosses val="autoZero"/>
        <c:auto val="1"/>
        <c:lblAlgn val="ctr"/>
        <c:lblOffset val="100"/>
        <c:noMultiLvlLbl val="0"/>
      </c:catAx>
      <c:valAx>
        <c:axId val="719579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04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32C-F75A-4F47-8B34-667FE90B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FB1-DDFA-46D9-AC29-C2DFF472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DBF-66FB-4DA4-A345-E51A7C50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8BAA-D41B-4218-A01C-701F4557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567D-7CAF-444F-9E91-D0FC34C7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7B3-1683-45BF-883A-B943785E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0620-2E26-4B84-AED2-0A19538C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9DA-751A-44C4-A6AE-EB68C9F7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4B58-93BF-4DFB-AF2A-8F426B47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50D-E1F8-4419-A0A2-9836016B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985-86C4-4802-ACDC-B397D246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04A3-81F9-471F-9363-EE8A7FEF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67549-D7A7-4332-8588-F041FDF6E6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