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97412"/>
        <c:axId val="80154598"/>
      </c:barChart>
      <c:catAx>
        <c:axId val="44997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54598"/>
        <c:crosses val="autoZero"/>
        <c:auto val="1"/>
        <c:lblAlgn val="ctr"/>
        <c:lblOffset val="100"/>
        <c:noMultiLvlLbl val="0"/>
      </c:catAx>
      <c:valAx>
        <c:axId val="80154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97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3A2-3DF0-4238-A1AD-1F24C320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1B5-D572-4D75-B715-BD0B72AA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B71-128C-46DA-B136-2F64CAC6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48A-E794-4E8D-A683-5830268B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E24-82A4-47CC-A9CF-B0FE5D43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E79-0D3C-4111-A719-412A44FF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579A-1AAC-4A4B-BF42-4E8368E0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466-922E-440C-A417-94451B0F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1A4-9EE0-4269-9FDB-34DECB70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946-92CF-473E-83C7-761B5043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8E1-91AE-420B-AF43-980CCD56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86A-4983-49CF-808E-A50C8E0F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4209E-EA49-4932-AA86-1F12C890D3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