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47058"/>
        <c:axId val="60302496"/>
      </c:barChart>
      <c:catAx>
        <c:axId val="92747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02496"/>
        <c:crosses val="autoZero"/>
        <c:auto val="1"/>
        <c:lblAlgn val="ctr"/>
        <c:lblOffset val="100"/>
        <c:noMultiLvlLbl val="0"/>
      </c:catAx>
      <c:valAx>
        <c:axId val="60302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47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969-944F-43A7-99F1-1EBEB58F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7B6-B519-4097-BA8B-DE2118C9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389-2CCD-4FA2-9243-B9EDAA47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FA47-3A7E-4367-984B-2ED0B546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8EAE-5176-451C-B327-E803A05C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F70-7856-4AF9-B6BE-E70A671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6B7-E154-4416-BFCD-92D69EFD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42E0-5025-4A36-BA03-22774FDC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092-A259-403C-93E1-771255A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39F-2685-434D-943C-BAFE988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580-392B-4233-9657-8519542E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726-83F3-486E-80BA-77B8C4B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D08C2-4973-46CA-AD0F-BC8F48DD8F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