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554838"/>
        <c:axId val="69274926"/>
      </c:barChart>
      <c:catAx>
        <c:axId val="235548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74926"/>
        <c:crosses val="autoZero"/>
        <c:auto val="1"/>
        <c:lblAlgn val="ctr"/>
        <c:lblOffset val="100"/>
        <c:noMultiLvlLbl val="0"/>
      </c:catAx>
      <c:valAx>
        <c:axId val="692749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548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1187-AA7A-494A-9314-A275494BB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74DD-D70D-4DD2-B8FB-E2F31777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8820-BA1A-4698-883B-9F267267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C84C-5A90-4A73-85F4-309126252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5FF8-BDA1-48C1-9B5B-BD3E911C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FAE2-2A65-42AB-9E83-574122FA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54E9-23CD-48FB-BF2F-E64027D3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2209-98E4-4D02-91E6-0C4FA6BB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3BB0-46AA-4D15-845E-F3F0C6FC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4CAB-44A2-471F-987E-DD7D37D2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8C6F-87A4-4025-A07E-2815889A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1D05-48AF-4426-9FBB-834B63F4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7306B-B6BD-48F0-B15D-A548F750FD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