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38789"/>
        <c:axId val="74941206"/>
      </c:barChart>
      <c:catAx>
        <c:axId val="447387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41206"/>
        <c:crosses val="autoZero"/>
        <c:auto val="1"/>
        <c:lblAlgn val="ctr"/>
        <c:lblOffset val="100"/>
        <c:noMultiLvlLbl val="0"/>
      </c:catAx>
      <c:valAx>
        <c:axId val="74941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87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58CE-4E9B-4C64-9437-5E614E47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7CA-A801-48FF-A1AB-3B36C1BF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F89-88EE-4C07-AAF7-A0E09E09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FD9-C868-4322-92E0-44A020D9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B76-27FA-43AB-BB53-B987EA6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DC8-1EE6-46AE-99ED-A16F59A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2C3-31CC-43E8-A8D5-4572329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96A-EFDC-46FC-87AF-17D2C287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473-6173-44E6-8C94-C6C7E8F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65C-989C-4BC9-A1E9-E609DBC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F2FC-7EE5-4043-9AF9-BCCEAA67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277-FD07-4B37-AE68-3A3952FD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04AE1-2C46-4159-94CC-48F8744F6A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