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06922"/>
        <c:axId val="2327146"/>
      </c:barChart>
      <c:catAx>
        <c:axId val="29206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7146"/>
        <c:crosses val="autoZero"/>
        <c:auto val="1"/>
        <c:lblAlgn val="ctr"/>
        <c:lblOffset val="100"/>
        <c:noMultiLvlLbl val="0"/>
      </c:catAx>
      <c:valAx>
        <c:axId val="2327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06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5FB-3126-45BE-8112-B9228F38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87A-2CDA-4C37-8DE6-384EB5A1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734-8AB7-417D-B403-EBC564E0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ACE-964E-49E6-BBD1-09878E6D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536-15A9-47A5-8D8F-CF5E5C1B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2EA-43A2-4922-9F19-F3A4E69D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B5C-43E0-40D0-9836-39CDB4E2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BFC-884E-40C9-A068-DC832C6D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019-4F3F-4F1A-8BD1-04F1DB1F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C62D-1604-4FB6-A8D7-2D9946B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1EF1-8C09-451A-BC92-926D701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580-A5CA-47F0-A64C-B055E0B5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EF444-BB8C-47E9-80E4-ABF18759C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