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09696"/>
        <c:axId val="58125991"/>
      </c:barChart>
      <c:catAx>
        <c:axId val="90009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25991"/>
        <c:crosses val="autoZero"/>
        <c:auto val="1"/>
        <c:lblAlgn val="ctr"/>
        <c:lblOffset val="100"/>
        <c:noMultiLvlLbl val="0"/>
      </c:catAx>
      <c:valAx>
        <c:axId val="58125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09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98E-8210-427C-AB76-CE6630F7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3DD-4639-4F7D-9340-73EF82C8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450-4B23-4ACF-81A5-34829857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CCC-13EC-4713-92DC-D89C6667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C69-9F6B-4631-B3E2-DCA1FDF9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F1A-BDB0-4571-9763-F9A349AD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B0F1-62E3-4BEB-B969-44564B4C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0F1-40EA-48DB-A9E1-D4A20F22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0D6-C166-446C-9FD4-3D03DF97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F793-2DEC-4B30-8D2B-C6B2152E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F604-BD40-4E26-8BB7-EF06C470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E31-81D6-4466-BC72-1A6DF1B5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2E7B8-7F8D-473F-B604-3000FB97BD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