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2454"/>
        <c:axId val="6552514"/>
      </c:barChart>
      <c:catAx>
        <c:axId val="2882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2514"/>
        <c:crosses val="autoZero"/>
        <c:auto val="1"/>
        <c:lblAlgn val="ctr"/>
        <c:lblOffset val="100"/>
        <c:noMultiLvlLbl val="0"/>
      </c:catAx>
      <c:valAx>
        <c:axId val="6552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2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868-264E-4129-9A68-F6915AE5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354-7C6B-4BF9-9BB8-002DABF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09F-21D2-41B9-90AE-6CA5F18E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1CC-9792-4E07-987E-9570927E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E02-FDF5-4C12-BE26-40371A5B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399-4BCD-465F-BA76-5ECBFD61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826-829B-4F70-87D2-846C70AC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F1A-82EA-4F55-878B-A61882D1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707-63EC-4095-8B94-17A79304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DD5-95F0-40E7-9ABB-9BA33D70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CB8-F1C8-479A-A675-20A9BF5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903-F369-4BBE-960A-76A6637C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68FA8-6286-48BF-AC68-EA25F4FB9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