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00927"/>
        <c:axId val="47604096"/>
      </c:barChart>
      <c:catAx>
        <c:axId val="66300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04096"/>
        <c:crosses val="autoZero"/>
        <c:auto val="1"/>
        <c:lblAlgn val="ctr"/>
        <c:lblOffset val="100"/>
        <c:noMultiLvlLbl val="0"/>
      </c:catAx>
      <c:valAx>
        <c:axId val="47604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00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49E-BAC9-4BFB-9ECC-B72EA0D5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4CD-EB7F-4FCB-AF03-6D3B64FB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0E5-3814-4F23-839B-C045DC47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6DD-1544-4973-8614-299A30F7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FC6-14BD-492A-A595-0BACF949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35D-DBF9-4827-A6CB-495E9120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666-F364-4947-A3AB-4EA57884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B25-9AC7-4ADA-96A7-63A571BD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F4F-1B33-4809-8950-6D67A5C4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87D-F6E6-4FFB-8C91-EFC5529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275-BDD8-4D69-84E1-F64FEE31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212-003E-436F-9E12-E4D2752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E8615-C475-4E99-9EA7-A5B438F5BB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