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76078"/>
        <c:axId val="23523061"/>
      </c:barChart>
      <c:catAx>
        <c:axId val="86760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23061"/>
        <c:crosses val="autoZero"/>
        <c:auto val="1"/>
        <c:lblAlgn val="ctr"/>
        <c:lblOffset val="100"/>
        <c:noMultiLvlLbl val="0"/>
      </c:catAx>
      <c:valAx>
        <c:axId val="235230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60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861-3A3E-48AF-92C7-2242E251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211E-B5C8-41CE-8B47-09E6C961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E8B2-0870-4C20-8265-529BB19C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A93-84DB-4C41-B2B2-140ECDA3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864-9DEB-48D7-8520-7EA44F3E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5981-C8E3-4431-A6D6-65593D06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0A7C-2343-4939-BFF3-F3E56CA9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7AB7-A0F7-4D61-B85B-470A5562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8B9A-59A4-489D-A8B7-71F5744B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5F8-9F80-4CA5-9296-32518340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EDA4-9012-4B56-8A68-14376A27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E51-DDDA-49F7-9A41-1354BDA4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30565-C533-4A1C-A284-8EA952434B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