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36819"/>
        <c:axId val="10583543"/>
      </c:barChart>
      <c:catAx>
        <c:axId val="241368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83543"/>
        <c:crosses val="autoZero"/>
        <c:auto val="1"/>
        <c:lblAlgn val="ctr"/>
        <c:lblOffset val="100"/>
        <c:noMultiLvlLbl val="0"/>
      </c:catAx>
      <c:valAx>
        <c:axId val="10583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368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3DB-FBE4-4E61-8126-54F2BFEA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7452-0D42-4C6D-B63E-7BC097D1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7B47-6FFE-4E89-BC44-6A0A425D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0D5-17A6-4358-8AB7-ED841CF2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D9A-383B-410D-957A-13966604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55A-5125-468B-AEF6-56A0BCDB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E787-2C87-4D4F-BAA3-0F6E4B00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543-540F-4334-9380-B4D5BF41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D64A-E0C5-4EBD-9B18-8E0DBE64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C23B-84D4-40A6-86EB-80E6C55A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8C9-D535-4CC9-B3C7-3796DC17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6AF-D491-4C4F-B6F0-62A91404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8F105-57D5-4385-9A8E-55BDB30BDA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