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709638"/>
        <c:axId val="47202998"/>
      </c:barChart>
      <c:catAx>
        <c:axId val="917096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02998"/>
        <c:crosses val="autoZero"/>
        <c:auto val="1"/>
        <c:lblAlgn val="ctr"/>
        <c:lblOffset val="100"/>
        <c:noMultiLvlLbl val="0"/>
      </c:catAx>
      <c:valAx>
        <c:axId val="472029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096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6F3D-8573-440A-AFAE-08E3BE7D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6FB4-94A0-4E85-8FDE-0884F9AD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36BB-B414-482D-B2BB-A5B09FC1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5539-722E-4F98-A20B-7C33B9BF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A473-6318-4D43-82E1-C21E8F9D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CAFC-454B-400C-8976-EF10C851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18E5-C51D-4F9F-90A1-208E7106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1B50-7EBB-4BE6-B750-C6C22D5F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4995-71F6-4F12-AB80-926FAD62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B25-9B11-4E78-8EB8-D1EA0BE3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B715-8C32-4BE8-A08B-9822F920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91A3-F264-4CE1-B8F7-B6901AF9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F7E1A-7929-415C-93A0-82A3D4FC67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