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45749"/>
        <c:axId val="80564374"/>
      </c:barChart>
      <c:catAx>
        <c:axId val="65045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64374"/>
        <c:crosses val="autoZero"/>
        <c:auto val="1"/>
        <c:lblAlgn val="ctr"/>
        <c:lblOffset val="100"/>
        <c:noMultiLvlLbl val="0"/>
      </c:catAx>
      <c:valAx>
        <c:axId val="80564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45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19A-90E3-4480-8923-EBF459F7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70F-DCD6-49EB-8244-6D1FE12E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B24-555D-4B00-BC6A-AFDC87E2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A49-2A06-42F6-A99C-E64E93CC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155-94CD-4D0A-A67B-16BA4444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A91-C878-4BBD-BD87-28C09703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FA0-EAF3-4B63-87FA-A8D945AB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9AA-15D0-4BEF-8BF7-D044645E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5B1-F1A3-474B-9403-06C32D8F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436-2DA3-4D4B-BD71-19FF31E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6D9-6C6C-427A-9F8D-DBC564E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5B2-3552-432F-8DCF-9EAA65B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48AC2-BF65-4FD1-8F09-5E4590FDDA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