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34278"/>
        <c:axId val="19783783"/>
      </c:barChart>
      <c:catAx>
        <c:axId val="59934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83783"/>
        <c:crosses val="autoZero"/>
        <c:auto val="1"/>
        <c:lblAlgn val="ctr"/>
        <c:lblOffset val="100"/>
        <c:noMultiLvlLbl val="0"/>
      </c:catAx>
      <c:valAx>
        <c:axId val="19783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34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3F9-72D6-4614-A242-7D8C8FC1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510-3B32-496C-ADAE-3B72A63A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C9C-C3CB-429E-A6E4-81D84581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593-63CD-497D-AF4B-1575F6E1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9AE-8184-44D6-8DFC-CF7BF11D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57D-EC18-432E-83B6-35B6BF6E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4C3-B9FD-487F-9793-B2B04FBF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31C-5124-4E5B-BD1A-836FC80D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D08-3A91-4145-99E7-E8364250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4D9-B6A2-40AC-9E4F-7ED499DB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0E9-CDC1-4A4A-95A6-614A9B38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C68D-818F-4AC9-B955-BDF5A215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2E9F1-CB8C-49C5-9681-D05B2DC4F4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