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64183"/>
        <c:axId val="41315662"/>
      </c:barChart>
      <c:catAx>
        <c:axId val="70764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15662"/>
        <c:crosses val="autoZero"/>
        <c:auto val="1"/>
        <c:lblAlgn val="ctr"/>
        <c:lblOffset val="100"/>
        <c:noMultiLvlLbl val="0"/>
      </c:catAx>
      <c:valAx>
        <c:axId val="41315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4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315-8A12-47EE-8DBE-AF2DA7BD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CD1-67E3-4987-ADA3-F706E7F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D45-2C8B-4A70-9F68-63B0A961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7AC-59A8-4C04-87DA-5FAAE8DF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165-341E-4838-B946-105D514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BC7-3B13-4A5A-B52C-98645BA2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70F-E080-47CE-B6F4-347584D2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AE2-B401-42D4-8C1C-32E62C5C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D4D-2023-436A-BF68-E3E1306B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646-526E-41F2-B5DF-CBFC5F77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0A8-02DE-4D1D-9009-D0E0CE3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3E6-9AFB-40B6-BF7B-2E8FDA2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D3A50-705A-4125-968E-41AA22E08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