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47368"/>
        <c:axId val="64619720"/>
      </c:barChart>
      <c:catAx>
        <c:axId val="367473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19720"/>
        <c:crosses val="autoZero"/>
        <c:auto val="1"/>
        <c:lblAlgn val="ctr"/>
        <c:lblOffset val="100"/>
        <c:noMultiLvlLbl val="0"/>
      </c:catAx>
      <c:valAx>
        <c:axId val="64619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473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F26-109C-48B5-84DF-AC15344C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C30-C1F6-470C-91DC-587428E2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650-E437-487E-A5A5-BAB15D93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6D0-1C98-4AC1-8432-45952037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5C6-A934-44EB-AC3B-A58BC56F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0262-1895-4FC4-80B8-2BB46D11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0AE-A48A-4909-9671-93CC7D2E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8651-B4EB-40D4-98B9-B2E955D7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67B-D378-4ABE-9255-3E8FBCF9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CB7-6DA1-4DDA-818C-0BFA41C0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64F-9B01-49FA-A38E-B070139A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69C-6226-4B2B-A41C-F1A3CD2B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C423C-9AF8-492C-AD00-7E7681B2F2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