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38960"/>
        <c:axId val="97606971"/>
      </c:barChart>
      <c:catAx>
        <c:axId val="19938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06971"/>
        <c:crosses val="autoZero"/>
        <c:auto val="1"/>
        <c:lblAlgn val="ctr"/>
        <c:lblOffset val="100"/>
        <c:noMultiLvlLbl val="0"/>
      </c:catAx>
      <c:valAx>
        <c:axId val="97606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38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0DC-A51B-4250-A032-F8074AC4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29A-E006-446A-BC60-9B677BC8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177-A16A-468D-B159-A1BE600C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327-AB68-43E2-91C3-8CAA83F4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C37-AC4D-4A5C-A596-4440CC2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1B6-28B4-4CF2-8F8C-B4A4BE2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E13-9CDB-4FE3-B99B-4BA23448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D0D-4FF8-43BE-B3F4-2854409F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AD8-914C-45AD-9640-43B3E92D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C9F-264B-4C20-AC98-DB90FAFA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716-E357-42B0-8595-77BF62D4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570-D165-4231-AF4F-A43A9C5F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48B82-28CC-4F4E-A706-1200010C58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