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3380"/>
        <c:axId val="90607934"/>
      </c:barChart>
      <c:catAx>
        <c:axId val="8573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07934"/>
        <c:crosses val="autoZero"/>
        <c:auto val="1"/>
        <c:lblAlgn val="ctr"/>
        <c:lblOffset val="100"/>
        <c:noMultiLvlLbl val="0"/>
      </c:catAx>
      <c:valAx>
        <c:axId val="90607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3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81B-1759-4550-8F5C-3CEA8634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7A4-F7D9-4966-BCA2-E96B56A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83F-21BC-45F9-B737-83C5B9BE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787-0918-4FF2-BBBC-0FCF73A3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465-AEFF-41BC-97F7-64B46614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48A-1467-4CDF-B495-3F638CC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72D-3761-41FB-8AEA-71838C6A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1E0-315E-4F91-95C2-3183B584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AE1-EEBA-4286-BA99-A1618534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21A-4B0D-443A-B0B0-D81D8FD8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4D6-1719-46D5-8677-40E74F1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4F7-D984-40C2-A322-57AE5397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11D0C-BE60-4ADE-AE23-7E4BA06F3C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